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5167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524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53600" y="65052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13E3-2885-4245-A5A1-935CC4DE27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CEBF-9192-4E40-A570-7D135D3258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00CE-E615-45D2-82E0-CDAD29BE2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9883-AAD4-49F1-A055-49FCE3C624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815E-3201-45B2-B1C7-825EA9B45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9546-7D86-4C1D-9502-A09189E024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A307-2632-488F-9C83-B83BC085D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1471-9757-448F-9DE0-B700F6AC87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EE84-E732-4F32-88D3-A36E556EE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3784-41E8-4566-A198-D7B46571E7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249C-EE99-41E9-96CB-22812393B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7F48-4861-4E6A-886F-3505684187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7083-237A-4B04-BDDE-BBEA69FEA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25FB5-A88A-4FFB-9030-A3C5668E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43C8-BE0F-4B57-8532-B5E1C32C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C0BC-022F-4F41-A7E0-7764CE9A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12DA-CD27-4E55-9A8B-D43C69D6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78A9-3D86-42B5-8444-03DEB3C1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86CA-8E66-43ED-9CC6-6602BA03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64D4-B885-4678-8433-04316400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639D-6FF9-406A-8D05-9F63495A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9F00-68F5-4827-8A93-FE6FAE0E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0E76-3F04-42FA-9B05-07E75A25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983C-08FC-4C2D-991A-A920A5E7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C07A3-01BE-4B7A-88EB-A82318B0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49BC-6EC2-4C73-B840-02385B43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6C95-7CF0-4796-A8F7-12BAF28B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201E-C8EA-4AF0-827F-5EADB05F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265E-88FB-4AA8-B768-339B1089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A075-C9F9-45D0-9880-572EF853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49B6A-90B7-434B-970B-6FA73A0D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2AEC0-7C96-41B8-BA86-602B3971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0E38-F73D-451D-834D-29675DF5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C69D-DBC8-40A9-AE71-F641FA05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1608-5BE0-491B-BB1D-CC7444C3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8DB45-176E-4B1F-9CC4-401E93D7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E20A-8B1B-48E4-A3E7-BBAB6ADE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167F-26B6-4F4A-B75E-F6A5CE277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E6F7-B111-4187-898C-2DABA1B5E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The Study of Change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5FFF-78EC-491D-8609-DB52A040C3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hysical or Chem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hys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 not change the composition or identity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ice melting or salt dissolving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hem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composition or identity of the substance/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hydrogen burn in air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876920"/>
            <a:ext cx="6476760" cy="1981080"/>
            <a:chOff x="1219320" y="4876920"/>
            <a:chExt cx="6476760" cy="1981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4046040" y="4876920"/>
              <a:ext cx="365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9320" y="5564880"/>
              <a:ext cx="24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FA6C7-ED25-4363-A89F-83EEF48226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57200" y="3650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Measurements a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3716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s of Macroscopic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scopic Properties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.g.: length, weight, temperature,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FF98-9847-4B83-9477-9B67B77E6C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3049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I Units: International System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8748720" cy="35319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4B17-4ACA-4F88-9FA5-74281B8554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3"/>
          <p:cNvSpPr/>
          <p:nvPr/>
        </p:nvSpPr>
        <p:spPr>
          <a:xfrm>
            <a:off x="22860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unit of ma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The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 The 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The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3"/>
          <p:cNvSpPr/>
          <p:nvPr/>
        </p:nvSpPr>
        <p:spPr>
          <a:xfrm>
            <a:off x="464832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Kg is the SI uni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654E-E2B4-4B6C-B0BE-5E9A018195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95" descr="01_03"/>
          <p:cNvPicPr/>
          <p:nvPr/>
        </p:nvPicPr>
        <p:blipFill>
          <a:blip r:embed="rId1"/>
          <a:srcRect l="0" t="3312" r="0" b="0"/>
          <a:stretch/>
        </p:blipFill>
        <p:spPr>
          <a:xfrm>
            <a:off x="228600" y="1297080"/>
            <a:ext cx="8686800" cy="47307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151" name="Right Arrow 5"/>
          <p:cNvSpPr/>
          <p:nvPr/>
        </p:nvSpPr>
        <p:spPr>
          <a:xfrm>
            <a:off x="380880" y="3809880"/>
            <a:ext cx="5943600" cy="76320"/>
          </a:xfrm>
          <a:prstGeom prst="rightArrow">
            <a:avLst>
              <a:gd name="adj1" fmla="val 50000"/>
              <a:gd name="adj2" fmla="val 4975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Up Arrow 7"/>
          <p:cNvSpPr/>
          <p:nvPr/>
        </p:nvSpPr>
        <p:spPr>
          <a:xfrm flipH="1">
            <a:off x="5105520" y="2438280"/>
            <a:ext cx="411120" cy="129564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5105520" y="4038480"/>
            <a:ext cx="380880" cy="15242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80880" y="304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3C6A-ED0B-4D8A-BEA5-61BDBFB07F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320" y="1295280"/>
            <a:ext cx="9067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prefixes giga- and micro represent, respectively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8088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A764-5AB6-4A88-9AFA-271D10847A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Base Unit  (e.g. km →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refix (e.g. m →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Prefix (e.g. km → 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DA4A-48D0-49E0-AC25-81F01AB40B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Bas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e.g. 6km → ?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(km is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.g. 6m → ?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m (m is 10</a:t>
            </a:r>
            <a:r>
              <a:rPr b="0" lang="ar-SA" sz="28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km (reverse the power sign from the table 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e.g. 6 km → ?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6 x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 </a:t>
            </a:r>
            <a:r>
              <a:rPr b="1" lang="en-GB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 (-9)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= 6 x 10</a:t>
            </a:r>
            <a:r>
              <a:rPr b="0" lang="ar-SA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(km is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 put negative sign (the nm is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4F1A1-4ECE-40FE-81CB-D7F49DE3CE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1"/>
          <p:cNvSpPr/>
          <p:nvPr/>
        </p:nvSpPr>
        <p:spPr>
          <a:xfrm>
            <a:off x="38088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icroseconds are in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 1 x 10 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EDCC-0A4D-4CDE-90C9-9BE57D7EC6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380880" y="685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08247-370D-4CEF-A52F-CB13CE4D42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990720"/>
            <a:ext cx="8964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Code/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em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I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r. Nuha Waz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Assistant Professor of Physica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ffice: Building 7 /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loor/ Office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Office hours: S.M.W.. 12-1 &amp; ...T.. 9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wazzan.kau.edu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110_nwazza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5D62-4A96-41CC-A454-1D05D0F4B1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1"/>
          <p:cNvSpPr/>
          <p:nvPr/>
        </p:nvSpPr>
        <p:spPr>
          <a:xfrm>
            <a:off x="30492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 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.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0.0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 → 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2.1 x 1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omic Sans MS"/>
              </a:rPr>
              <a:t>-8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3232"/>
                </a:solidFill>
                <a:latin typeface="Comic Sans MS"/>
              </a:rPr>
              <a:t>Explana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though 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st number in this question, the units of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icometers) are the smallest units 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t the smallest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BAC6-3243-45A6-9F5F-D76E6FF3FC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560" y="45720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ameter of an atom is approximately 1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m. What is this diameter when expre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nomet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cccce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02D7-6DD4-4A24-B698-F87E3E2767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457200"/>
            <a:ext cx="8076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Which of these quantities represents the largest mas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001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DFE2-492B-4F63-9EC9-BF551FD44A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28240" y="10663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ass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he measure of the amount of matter i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omic Sans MS"/>
              </a:rPr>
              <a:t>S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it of mass is th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(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kg = 1000 g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is the measurement of the pull of gravity o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an object doesn't change when an object's location changes.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Weigh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 on the other hand does change with loc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hemist are interested primarily in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01_03"/>
          <p:cNvPicPr/>
          <p:nvPr/>
        </p:nvPicPr>
        <p:blipFill>
          <a:blip r:embed="rId1"/>
          <a:srcRect l="0" t="0" r="20710" b="0"/>
          <a:stretch/>
        </p:blipFill>
        <p:spPr>
          <a:xfrm>
            <a:off x="6781680" y="53352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60020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weight = </a:t>
            </a:r>
            <a:r>
              <a:rPr b="0" i="1" lang="en-US" sz="2800" spc="-1" strike="noStrike">
                <a:solidFill>
                  <a:srgbClr val="9d3232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 x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79132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The weight of man on earth is 5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is 8.25 pounds on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08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Mass and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73FB9-E89D-4E51-B3D3-9F8F22AC03A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I Derived Uni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defined in terms of the seven base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ystem of quantity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dth x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wid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leng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Area = m× m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67160" y="4648320"/>
            <a:ext cx="3669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at units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4920" y="3808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I Deriv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276720" y="5638680"/>
            <a:ext cx="3276360" cy="990720"/>
          </a:xfrm>
          <a:prstGeom prst="wedgeRectCallout">
            <a:avLst>
              <a:gd name="adj1" fmla="val -3050"/>
              <a:gd name="adj2" fmla="val -1017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derived unit fo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257800" y="3657600"/>
            <a:ext cx="2590920" cy="609480"/>
          </a:xfrm>
          <a:prstGeom prst="wedgeRectCallout">
            <a:avLst>
              <a:gd name="adj1" fmla="val -90504"/>
              <a:gd name="adj2" fmla="val 19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Ba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7339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F3F5-9137-4649-B4A6-4EE547461F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743200" y="414360"/>
            <a:ext cx="6629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= width × length ×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m × m × m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50280" y="411480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c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2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6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2400" y="472428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d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1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3581280" y="2590920"/>
            <a:ext cx="5181840" cy="990360"/>
          </a:xfrm>
          <a:prstGeom prst="wedgeRectCallout">
            <a:avLst>
              <a:gd name="adj1" fmla="val 6708"/>
              <a:gd name="adj2" fmla="val -9599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the SI derived unit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A1440-0B17-4F49-9E9B-8238D3032D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66760" y="338040"/>
            <a:ext cx="90295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 unit of volume is liter (L) and milliliter 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L= 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L = 1d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A liter: is the volume occupied by one cubic decimeter</a:t>
            </a:r>
            <a:r>
              <a:rPr b="1" lang="en-GB" sz="44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milliliter (m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mL = 1c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14D6-242B-439E-8157-468B3E503D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How many cubic centimeters are there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xactly one cubic meter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70c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1m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(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1A3FC-048C-4F16-9910-F6E7007FB1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ensity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amount of matter in a given amount of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I derived unit for density is kg/m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995400" y="3048120"/>
            <a:ext cx="3034800" cy="779760"/>
            <a:chOff x="995400" y="3048120"/>
            <a:chExt cx="3034800" cy="779760"/>
          </a:xfrm>
        </p:grpSpPr>
        <p:sp>
          <p:nvSpPr>
            <p:cNvPr id="189" name="Text Box 4"/>
            <p:cNvSpPr/>
            <p:nvPr/>
          </p:nvSpPr>
          <p:spPr>
            <a:xfrm>
              <a:off x="995400" y="32292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ens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833200" y="304812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680920" y="33681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2734920" y="34380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9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001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8EE87-62A1-419B-9F37-01FBCBC15844}" type="slidenum">
              <a:t>2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Comic Sans MS"/>
              </a:rPr>
              <a:t>Density decrease with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ml  &amp; </a:t>
            </a:r>
            <a:r>
              <a:rPr b="0" lang="ar-SA" sz="3600" spc="-1" strike="noStrike">
                <a:solidFill>
                  <a:srgbClr val="700e2a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cm</a:t>
            </a:r>
            <a:r>
              <a:rPr b="0" lang="en-US" sz="3600" spc="-1" strike="noStrike" baseline="30000">
                <a:solidFill>
                  <a:srgbClr val="700e2a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 for liquid and sol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/L = 0.001 g/ml for gases (Because density of gases are very l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AA30-BEA9-467D-82BD-3E0B9048BF2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Required Textbook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y: R. Chang,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edi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cGraw Hill 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andouts (PPt sl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_vv4-0" descr="http://i.ebayimg.com/21/!B)7q8lQ!Wk~$(KGrHqEOKnQEw8ojvO2CBMPkKfyHb!~~_12.JPG"/>
          <p:cNvPicPr/>
          <p:nvPr/>
        </p:nvPicPr>
        <p:blipFill>
          <a:blip r:embed="rId3"/>
          <a:stretch/>
        </p:blipFill>
        <p:spPr>
          <a:xfrm>
            <a:off x="6248520" y="2057400"/>
            <a:ext cx="281916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B131-1C84-466C-9CB9-738A8E29F8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Dens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89548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m &amp;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97180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m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 = m /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20184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V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 = d x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7AA5-87A3-41EB-A2C6-E1AE30551F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Gold metal has a volume o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15.6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, with a mass of 301 g  W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its dens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33520" y="482904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301g /  15.6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19.3 g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1 p19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5470-A994-4650-9191-9B5B7A67651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80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actice Exercise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platinum metal with a dens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of 21.5 g/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 has a volume of 4.49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3513240" y="411480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764080" y="571500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21.5 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x 4.49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411480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609588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EC4D-3BE4-472E-8E86-0F0F09D0FE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520" y="4269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2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The density of mercury is 13.6 g/mL h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volume of 5.50 mL.  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513240" y="396252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2209680" y="5454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13.6 g/mL x 5.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74.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 flipV="1">
            <a:off x="419112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586728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B0EE3-CED2-4BEB-9BAB-74A6956E1D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29080" y="1400040"/>
            <a:ext cx="2210040" cy="4335480"/>
            <a:chOff x="5329080" y="1400040"/>
            <a:chExt cx="2210040" cy="43354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29080" y="140004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838920" y="520992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29360" y="520056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186760" y="386712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728880" y="1352520"/>
            <a:ext cx="86076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6929280" y="1628640"/>
            <a:ext cx="547920" cy="2633760"/>
            <a:chOff x="6929280" y="1628640"/>
            <a:chExt cx="547920" cy="2633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143840" y="162864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7110360" y="316692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8"/>
            <a:stretch/>
          </p:blipFill>
          <p:spPr>
            <a:xfrm>
              <a:off x="6929280" y="339552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7172280" y="403380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116840" y="1371600"/>
            <a:ext cx="1312920" cy="4185720"/>
            <a:chOff x="7116840" y="1371600"/>
            <a:chExt cx="1312920" cy="4185720"/>
          </a:xfrm>
        </p:grpSpPr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388280" y="137160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"/>
            <a:stretch/>
          </p:blipFill>
          <p:spPr>
            <a:xfrm>
              <a:off x="7116840" y="536724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2362320" y="5715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Kelvin is the SI Base Unit of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These thermometers defined the Freezing Point (F.P.) &amp; the Boiling  Point (B.P.)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2ED56-EA8D-49BF-91D0-6F6223D4AE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1200" y="2522520"/>
            <a:ext cx="2209320" cy="4335480"/>
            <a:chOff x="6091200" y="2522520"/>
            <a:chExt cx="2209320" cy="4335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091200" y="2522520"/>
              <a:ext cx="204120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600680" y="6332400"/>
              <a:ext cx="69984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791480" y="632304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948880" y="498960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91000" y="247500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691400" y="2751120"/>
            <a:ext cx="547200" cy="2633760"/>
            <a:chOff x="7691400" y="2751120"/>
            <a:chExt cx="547200" cy="263376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7905600" y="2751120"/>
              <a:ext cx="304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872120" y="42894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7691400" y="4518000"/>
              <a:ext cx="4568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934040" y="515628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7878600" y="2494080"/>
            <a:ext cx="1312920" cy="4185720"/>
            <a:chOff x="7878600" y="2494080"/>
            <a:chExt cx="1312920" cy="418572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8150040" y="249408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1"/>
            <a:stretch/>
          </p:blipFill>
          <p:spPr>
            <a:xfrm>
              <a:off x="7878600" y="648972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12952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temperature scales, their units 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egrees Celsius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grees Fahrenhei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lv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1F8AA-EF3C-4707-9820-436D01B7F2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Degrees Celsius </a:t>
            </a:r>
            <a:r>
              <a:rPr b="0" lang="en-GB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C:</a:t>
            </a:r>
            <a:r>
              <a:rPr b="0" lang="ar-SA" sz="32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 Scale 0 </a:t>
            </a:r>
            <a:r>
              <a:rPr b="0" lang="en-GB" sz="3200" spc="-1" strike="noStrike">
                <a:solidFill>
                  <a:srgbClr val="9999ff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100 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Kelvin K: Scale 273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1K = 1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grees Fahrenheit 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Scale from 32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2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us: 180 divisions or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us: the size of degree in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scale is only 100/180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5/9 of a degree on the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 scale</a:t>
            </a:r>
            <a:r>
              <a:rPr b="0" lang="ar-S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= (5/9)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92462-37DE-464F-94C8-8A49B64BD77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 °C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+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-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Fahrenheit °F →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or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= [ (9/5) ×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] +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(5/9) (</a:t>
            </a:r>
            <a:r>
              <a:rPr b="1" lang="fr-FR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 relat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         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     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      °F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us: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971800" cy="1143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733920"/>
            <a:ext cx="3886200" cy="990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6248520"/>
            <a:ext cx="2362320" cy="457200"/>
          </a:xfrm>
          <a:prstGeom prst="wedgeRectCallout">
            <a:avLst>
              <a:gd name="adj1" fmla="val -25805"/>
              <a:gd name="adj2" fmla="val -74305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248520"/>
            <a:ext cx="2438280" cy="457200"/>
          </a:xfrm>
          <a:prstGeom prst="wedgeRectCallout">
            <a:avLst>
              <a:gd name="adj1" fmla="val 523"/>
              <a:gd name="adj2" fmla="val -83333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8182-CC27-4415-A7C5-474AE9FB92E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08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(a) Convert 224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 </a:t>
            </a:r>
            <a:r>
              <a:rPr b="0" lang="de-DE" sz="2800" spc="-1" strike="noStrike">
                <a:solidFill>
                  <a:srgbClr val="00007d"/>
                </a:solidFill>
                <a:latin typeface="Comic Sans MS"/>
              </a:rPr>
              <a:t>]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[°F = (9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22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b) Convert -452 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°F 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452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= -269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c) Convert 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-38.9 </a:t>
            </a:r>
            <a:r>
              <a:rPr b="0" lang="en-US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K =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38.9 </a:t>
            </a:r>
            <a:r>
              <a:rPr b="0" lang="fi-FI" sz="3200" spc="-1" strike="noStrike">
                <a:solidFill>
                  <a:srgbClr val="9999ff"/>
                </a:solidFill>
                <a:latin typeface="Comic Sans MS"/>
              </a:rPr>
              <a:t>°C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+ 273.15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= 234.3 </a:t>
            </a:r>
            <a:r>
              <a:rPr b="0" lang="fi-FI" sz="3200" spc="-1" strike="noStrike">
                <a:solidFill>
                  <a:srgbClr val="00007d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1.3 p20 &amp; 21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6E0C1-F21B-4B82-9B83-3689B2215E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3520" y="457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 Ammonia boils at -33.4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C. Wh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temperature is this in 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F?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60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92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(c)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-28.1</a:t>
            </a:r>
            <a:r>
              <a:rPr b="0" lang="en-US" sz="3100" spc="-1" strike="noStrike">
                <a:solidFill>
                  <a:srgbClr val="0070c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+13.5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]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-33.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06771-9E2F-4D8C-9D4B-D91C433B02E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ourse 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4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exams during the 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irst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 Chapter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econd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1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apters 5,7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0e2a"/>
                </a:solidFill>
                <a:latin typeface="Comic Sans MS"/>
              </a:rPr>
              <a:t>Final term exam 40 marks </a:t>
            </a: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from lecture 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(Chapters 1,2,3,4,5,7,8,9,10,14,15,24,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N for 25% absence according to colleg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F0BB-1C38-429B-8711-B49D705390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FA98F-D859-4C6A-B164-5C074322219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666880"/>
            <a:ext cx="7086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s 16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ework  Page 32 &amp;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17,1.22,1.23,1.25,1.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19320" y="10494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D3340-906E-422E-8079-BE9AB306E0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95120" y="12679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SI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Pre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Unit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r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Mass and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emperatur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363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 The Study of Change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5275-69BF-4388-8388-5A9EC2761D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304920" y="2351160"/>
            <a:ext cx="8458200" cy="3516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Comic Sans MS"/>
              </a:rPr>
              <a:t>Ma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644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9D44-2EF6-4F04-BCED-DF1FAE4CF1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st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matter and the changes it under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ter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ything that occupies space and ha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stan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form of matter that has a definite composition and distin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80880" y="3808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6AD5-935A-4F02-95AD-EB497CD937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2"/>
          <p:cNvGrpSpPr/>
          <p:nvPr/>
        </p:nvGrpSpPr>
        <p:grpSpPr>
          <a:xfrm>
            <a:off x="1371600" y="1905120"/>
            <a:ext cx="6095520" cy="4647600"/>
            <a:chOff x="1371600" y="1905120"/>
            <a:chExt cx="6095520" cy="4647600"/>
          </a:xfrm>
        </p:grpSpPr>
        <p:pic>
          <p:nvPicPr>
            <p:cNvPr id="133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371600" y="1905120"/>
              <a:ext cx="6095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5961240" y="5700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>
              <a:off x="1532160" y="54932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4890960" y="19476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24D89-12E0-4774-8958-4E491B2D3A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1-31T20:09:25Z</dcterms:modified>
  <cp:revision>218</cp:revision>
  <dc:subject/>
  <dc:title>General Chemistry CHEM 110</dc:title>
</cp:coreProperties>
</file>